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CFA-717A-4153-9B37-2BEC4ABF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B49-14B4-44BB-8116-BCBB7C18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CC2-1009-4FB8-BF0D-93AFF80A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998-5EDD-45FA-857A-49877972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A9B8-D4EF-404E-93FF-D806F55A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E040-0768-4657-8032-3348942E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3D90-8614-44D6-BD23-678821F5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0CCF-7E66-4DDB-BF22-BDAE5129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E3E9-FAC8-49D5-BDF0-C6EBEC94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88E7-0043-48F2-ACD4-B7FE30EC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3148-7C87-4878-B18A-F107CAB2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22C-4739-47DC-9BA5-DC0CEAD1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A0D4-8020-4B23-854F-F8D6ADBD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A689-A2DB-4FA8-9441-A2A1659B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EA43-54B2-4828-95BA-07D6F99B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6269-16DF-402F-A1D1-6094C647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5A5A-467F-4FD1-928A-F5F62DA2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CBB54-6EF4-42D0-B9C1-62C5467C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9ECE-C490-463C-9228-B74D88E4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9B7CF-486A-40C4-907A-86980222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4C51-6010-4284-99F9-291A2D52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0474-C429-40A7-A69F-6D80FC48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8EF-56F3-4B88-8E03-906731ED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F8F41-3546-40D5-84A3-23BAB853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BA6B-98FB-450C-9C7A-E31E84AB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ECFFC-A629-4B61-B430-12D48955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D9A4-DA24-42BE-BA07-06AD3BD2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081E4-EA09-432E-99A5-1755239A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3BC9-F7FD-4740-9C95-51C9BB1A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20D39-8FFA-46D2-AD09-FAAEB979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A92C5-106C-4C6F-AF83-12B2941B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9A0F-2715-42BB-A8F8-CFF0AD79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04A91-4109-4E28-B028-0436AEFF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88F-7337-452B-B724-713FC3CF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0DE2C-EC46-4804-B963-DF6987EE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29721-9E4F-48D7-A581-E7424B76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510B-FC16-4C4F-83B0-ECC1D3FB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A8774-1389-4951-8C5A-9ABD94B4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C8E0B-0308-4C0E-982F-2D705F12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B0670-3D22-4882-919C-0B305B6B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C9040-B4BB-4256-854E-D671BB26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43CF5-B229-48D3-9CA6-87FEB12F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359F7-BAA0-4746-83D7-DD8FC0AF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F33-7FDC-4D90-A311-10DF6E2B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CC0-E7B2-4D96-BB75-2E6EF5A5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36F-4D30-4C99-9D76-F1EEBFBD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C20-B5D2-4DCC-A219-4D7B9671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420-BA4A-43C5-8339-B4F981D8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130B-65AF-4774-9ECD-3CBEB618B0D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8A3B-CE7F-4CB9-8A73-AC9130A81A8C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C3E6-30E7-407E-AF38-B81E2F0A2049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D40C-4ECB-4CD5-B11E-4B53EC0B9D5F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50480"/>
            <a:ext cx="9718560" cy="4157640"/>
          </a:xfrm>
          <a:prstGeom prst="rect">
            <a:avLst/>
          </a:prstGeom>
          <a:noFill/>
          <a:ln w="9360">
            <a:solidFill>
              <a:srgbClr val="90c226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  </a:t>
            </a: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Окружающий мир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«Кто нас лечит»?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Тема недели: 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«Мир профессий»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(с 13.04 по 17.0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Цель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92040" y="1890360"/>
            <a:ext cx="7939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знать больше о профессий врач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45960" y="-360"/>
            <a:ext cx="9429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90c226"/>
                </a:solidFill>
                <a:latin typeface="Trebuchet MS"/>
              </a:rPr>
              <a:t>«Доктор Айболит»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0760" y="1770120"/>
            <a:ext cx="52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 вам предлагаем прочитать  сказку: Корнея Чуковского «Доктор Айболит». Так же вы можете просмотреть видео сказ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5" descr="1017815927.jpg"/>
          <p:cNvPicPr/>
          <p:nvPr/>
        </p:nvPicPr>
        <p:blipFill>
          <a:blip r:embed="rId1"/>
          <a:stretch/>
        </p:blipFill>
        <p:spPr>
          <a:xfrm>
            <a:off x="7515360" y="1246320"/>
            <a:ext cx="374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2920" y="19368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 прочтения или просмотра задать ребенку следующие вопрос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 называется профессия «Доктора Айболит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ля чего ему нужен чемоданчик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находиться в этом чемоданчике предметы по карти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играть в игру:«Айболит проверяет здоровье ребят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Стрелка вниз 9"/>
          <p:cNvSpPr/>
          <p:nvPr/>
        </p:nvSpPr>
        <p:spPr>
          <a:xfrm>
            <a:off x="7280280" y="133020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0" descr="doctor.png"/>
          <p:cNvPicPr/>
          <p:nvPr/>
        </p:nvPicPr>
        <p:blipFill>
          <a:blip r:embed="rId1"/>
          <a:stretch/>
        </p:blipFill>
        <p:spPr>
          <a:xfrm>
            <a:off x="7505640" y="1346040"/>
            <a:ext cx="489276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2560" y="2028960"/>
            <a:ext cx="4335120" cy="42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Прямоугольник 2"/>
          <p:cNvSpPr/>
          <p:nvPr/>
        </p:nvSpPr>
        <p:spPr>
          <a:xfrm flipV="1">
            <a:off x="325440" y="1602360"/>
            <a:ext cx="4021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11" descr="1026514629.jpg"/>
          <p:cNvPicPr/>
          <p:nvPr/>
        </p:nvPicPr>
        <p:blipFill>
          <a:blip r:embed="rId1"/>
          <a:stretch/>
        </p:blipFill>
        <p:spPr>
          <a:xfrm>
            <a:off x="450720" y="272880"/>
            <a:ext cx="96552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01:25:42Z</dcterms:created>
  <dc:creator>HP!</dc:creator>
  <dc:description/>
  <dc:language>en-US</dc:language>
  <cp:lastModifiedBy>USER</cp:lastModifiedBy>
  <dcterms:modified xsi:type="dcterms:W3CDTF">2020-04-10T12:11:53Z</dcterms:modified>
  <cp:revision>56</cp:revision>
  <dc:subject/>
  <dc:title>Фотоальбом</dc:title>
</cp:coreProperties>
</file>